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48D-745A-4ED1-9846-F2B2A2B6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D07-CFA8-4733-8632-160C97D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750-AE1F-4F0B-B0A9-ECBBBB7D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6EC-A674-4A92-BB5C-7DAD022C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80EE-AB7C-4CA7-ACA4-B220AADD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E6D1-BEF3-4E0A-8A2B-11E4C41D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5095-EA64-4316-9994-39048C9E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F2D9-A957-4887-8689-AAD3FD2E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70EC-0616-4646-A836-133C89C9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A551-0EB1-4FEF-8B93-7CDEE6EF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9354-C2F5-41B2-B048-05FABB4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91F-F247-456C-889C-BFCF5FBE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40C6-F640-45FD-95CC-536D51F8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0207-06A6-4DFC-9947-C0D5C2F4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DD11-FFE1-4956-BF11-B4BFF8E5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91B7-1CEF-4770-ACE7-2C13DF56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E19A-0EAD-429B-9DB3-B264A920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17D-D8C6-4858-8BE2-FF769556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0F5-203F-4089-A168-2E61CAB8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1EB-9C1E-4FD5-9741-7797658E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1EC-6B7A-4E33-9B7C-7B284A0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CCA-BE9E-469B-91CD-64673D99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CE5-86A9-4D6B-8813-7B6245E7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2EA-3764-4F22-83D4-C0EAEC23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F575-7FC6-4ECB-9A62-B8FAF642D9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F7DE-DAA0-4BF2-912C-27C58A499A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207.125.93.3/ce/experiments/index.html#Scenarios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chemistryx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31053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38240" y="2209680"/>
            <a:ext cx="60310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you knowledg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ting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Scientific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see if you can ide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eps of the scientif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centist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40" name="test_tubes1" descr=""/>
          <p:cNvPicPr/>
          <p:nvPr/>
        </p:nvPicPr>
        <p:blipFill>
          <a:blip r:embed="rId3"/>
          <a:stretch/>
        </p:blipFill>
        <p:spPr>
          <a:xfrm>
            <a:off x="6013440" y="1752480"/>
            <a:ext cx="3130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4920" y="2438280"/>
            <a:ext cx="820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cientific method is the only scientif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y accepted to back up a theor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.  This is the method on which a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projects should be based. 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ientific Method is used by research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or disprove a theory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centist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24160" y="2438280"/>
            <a:ext cx="7617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cientific Method involves 5 step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scentist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06" name="chem01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7" name="chem01" descr=""/>
          <p:cNvPicPr/>
          <p:nvPr/>
        </p:nvPicPr>
        <p:blipFill>
          <a:blip r:embed="rId3"/>
          <a:stretch/>
        </p:blipFill>
        <p:spPr>
          <a:xfrm>
            <a:off x="2133720" y="4952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08" name="chem01" descr=""/>
          <p:cNvPicPr/>
          <p:nvPr/>
        </p:nvPicPr>
        <p:blipFill>
          <a:blip r:embed="rId4"/>
          <a:stretch/>
        </p:blipFill>
        <p:spPr>
          <a:xfrm>
            <a:off x="2133720" y="4495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09" name="chem01" descr=""/>
          <p:cNvPicPr/>
          <p:nvPr/>
        </p:nvPicPr>
        <p:blipFill>
          <a:blip r:embed="rId5"/>
          <a:stretch/>
        </p:blipFill>
        <p:spPr>
          <a:xfrm>
            <a:off x="2133720" y="3962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0" name="chem01" descr=""/>
          <p:cNvPicPr/>
          <p:nvPr/>
        </p:nvPicPr>
        <p:blipFill>
          <a:blip r:embed="rId6"/>
          <a:stretch/>
        </p:blipFill>
        <p:spPr>
          <a:xfrm>
            <a:off x="2133720" y="35053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155240" y="2438280"/>
            <a:ext cx="791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observe some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material world, using your sen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machines which are basic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of thos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centist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14" name="detectiv" descr=""/>
          <p:cNvPicPr/>
          <p:nvPr/>
        </p:nvPicPr>
        <p:blipFill>
          <a:blip r:embed="rId2"/>
          <a:stretch/>
        </p:blipFill>
        <p:spPr>
          <a:xfrm>
            <a:off x="6553080" y="4495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4419720"/>
            <a:ext cx="4876560" cy="1295280"/>
          </a:xfrm>
          <a:prstGeom prst="wedgeEllipseCallout">
            <a:avLst>
              <a:gd name="adj1" fmla="val 56152"/>
              <a:gd name="adj2" fmla="val 413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5640" y="48006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H—Look at th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13840" y="2286000"/>
            <a:ext cx="614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ask a ques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ut what you obser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the problem or ques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centist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20" name="AMCONFUS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" y="2286000"/>
            <a:ext cx="588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predict w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think the answer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question might 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entist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24" name="AMIDEA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1295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79640" y="2286000"/>
            <a:ext cx="906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You figure out a way to test whe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thesis is correct. The outcome must 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able. (quantifiabl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and analyze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scentist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28" name="AMPROBLE" descr=""/>
          <p:cNvPicPr/>
          <p:nvPr/>
        </p:nvPicPr>
        <p:blipFill>
          <a:blip r:embed="rId2"/>
          <a:stretch/>
        </p:blipFill>
        <p:spPr>
          <a:xfrm>
            <a:off x="5486400" y="3276720"/>
            <a:ext cx="342900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-181440" y="1905120"/>
            <a:ext cx="723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do the experiment u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ethod you came up with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the results. You repea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to confirm y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by retesting.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centist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32" name="AMDISAST" descr=""/>
          <p:cNvPicPr/>
          <p:nvPr/>
        </p:nvPicPr>
        <p:blipFill>
          <a:blip r:embed="rId2"/>
          <a:stretch/>
        </p:blipFill>
        <p:spPr>
          <a:xfrm>
            <a:off x="4495680" y="3314880"/>
            <a:ext cx="46483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-228600" y="1905120"/>
            <a:ext cx="740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e Conclu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state whe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prediction was confirmed or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try to explain your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scentist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36" name="bigmouth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2076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0:42:23Z</dcterms:created>
  <dc:creator>Connie</dc:creator>
  <dc:description/>
  <dc:language>en-US</dc:language>
  <cp:lastModifiedBy>Connie</cp:lastModifiedBy>
  <dcterms:modified xsi:type="dcterms:W3CDTF">1999-10-21T01:16:52Z</dcterms:modified>
  <cp:revision>3</cp:revision>
  <dc:subject/>
  <dc:title>The Scientific Method</dc:title>
</cp:coreProperties>
</file>